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4646-0226-4EBB-BEE6-6EB778647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2D56-D75B-4B3B-867E-3E6D0ACF3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A3F3-9CA5-4302-B797-39BC806EB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D462-6793-4871-8B00-B325C8F8C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794B-01BD-4A00-95BE-8F73CEB83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F8F5-B5E4-4001-9A3A-1E407ACFC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A9BC-9D69-4BC9-890D-88614DF97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D538-77E2-4E67-8167-43F70D6D6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3DA8-CDA5-48C7-B9F5-3877C0EE6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3325-A88F-4231-B2DC-D6DF0F10D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B3E8-C8E0-4A0D-A543-A202D017F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5719-9224-408E-AF0D-68C1B4155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4A9C9-9AD7-4D4E-8011-B606ADA163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be0e3"/>
                </a:solidFill>
                <a:latin typeface="Arial Narrow"/>
              </a:rPr>
              <a:t>Lamb of God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Jesus, Lamb of God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have mercy on 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Jesus, bearer of our sins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have mercy on 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Jesus, redeemer of the world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grant us peac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120" y="601992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 Narrow"/>
              </a:rPr>
              <a:t>ELLC 198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0T23:40:44Z</dcterms:created>
  <dc:creator>Anon Anon</dc:creator>
  <dc:description/>
  <dc:language>en-US</dc:language>
  <cp:lastModifiedBy>Anon Anon</cp:lastModifiedBy>
  <dcterms:modified xsi:type="dcterms:W3CDTF">2005-08-16T04:24:02Z</dcterms:modified>
  <cp:revision>10</cp:revision>
  <dc:subject/>
  <dc:title>PowerPoint Presentation</dc:title>
</cp:coreProperties>
</file>